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77A7BA-870E-4702-90F8-95AD33AE49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91AADB-B9CB-4CD9-93B8-B42E055648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61BB8C-92C9-46C3-8904-994992E50A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A296E2-D42E-4B6F-9B17-C93D3DB10D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3DEAE6-2288-497B-9EE4-05160E3C82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4A6667-AFBB-4288-8397-0D550FC441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FDAB18-5B98-452C-AB9E-5E59BC206D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326E41-426A-4C98-8615-45BA2A6D82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D4A774-60DF-4F67-9239-EEDBFAF16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6D3CF-C0F8-4525-8802-AF909C4B91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D0C00-FB53-427E-963E-69A9AB0B7F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F9EB9-763C-439A-9A59-F436F83B84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6F87C-8CDC-4E55-9E4C-5CC18BB307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sepoli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r. Rush</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 Muski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we will Do</a:t>
            </a:r>
            <a:endParaRPr b="0" lang="en-US" sz="4400" spc="-1" strike="noStrike">
              <a:solidFill>
                <a:srgbClr val="000000"/>
              </a:solidFill>
              <a:latin typeface="Times New Roman"/>
            </a:endParaRPr>
          </a:p>
        </p:txBody>
      </p:sp>
      <p:sp>
        <p:nvSpPr>
          <p:cNvPr id="4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ives</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e/ Evaluate the role of the US in Iran </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yze the causes of the Islamic Revolution</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yze causes of oppression by the Shah and Islamic Fundamentalists</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5"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sk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G- History of Iran</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o is the author?</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to read a Graphic Novel</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 Chapter 1.</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ticipation Guide from Introducation</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___ 1.  Iran has always been rich.</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___ 2.  Iran is the site of one of the great Ancient empires- the Persian Empir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___ 3.  The Iranians fought against Germany in World War II.</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___ 4.  The Americans overthrew the Iranian government in the 1950’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pter 2: The Bicycle</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 page 10, the Marjorie’s friend says “The Revolution is like a bicycle.  When its wheels don’t turn, it falls.”  What does she mean by thi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a revolution a good thing?  Why or why no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pter 2:  The Bicylce</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urn to page 11.</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Iran’s history?  Who controlled Iran?  How might this history impact Ira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pter 2: The Bicycle</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the end of the chapter, Marjane asks to demonstrate against the government.  Would you let your child demonstrate and be “a part of history” or would you make her stay at home for safety’s sake?</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lain your position</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3 facts from the story</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 1 counterargument and why you disagre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1T21:27:27Z</dcterms:created>
  <dc:creator>Rick Davis</dc:creator>
  <dc:description/>
  <dc:language>en-US</dc:language>
  <cp:lastModifiedBy>Rick Davis</cp:lastModifiedBy>
  <dcterms:modified xsi:type="dcterms:W3CDTF">2011-02-24T00:24:54Z</dcterms:modified>
  <cp:revision>2</cp:revision>
  <dc:subject/>
  <dc:title>Persepolis</dc:title>
</cp:coreProperties>
</file>